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3371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98840" y="0"/>
            <a:ext cx="337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1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2E67-A9EF-4A1F-8ED7-A02A775E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C0447-2534-4AD1-893B-F4A2CBE4A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95B5-B8F7-4DB6-9953-88E28A6CD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A9DEE-D050-44FB-BC57-B48FB9EF7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D597E-3F06-4B94-8E00-C2396D3D0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4BCDE-7A6F-4B2F-9242-A4A657642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DD44C-C056-4A8F-BECB-78EED770D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0DEE-C93F-443C-9D0F-57F94DB9E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A422C-6AB9-4A08-9EB1-55B0F81F9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0FB93-B7EF-4D33-9DA9-15779FD39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7820-A1BA-42BC-85EE-1AC2EF2D6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DB8D-D62D-4523-87CA-91028BF90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D769-432F-4C98-8E6E-CB2BF5E02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2451-DC95-48A1-9C02-C0D53E7E48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7A75-1C99-438C-9721-1C6BF16003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E3B4-1F3B-4565-B982-60BF3363BD9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1F10-9D38-4478-A93D-523EC89536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CE9E-7561-4B73-88D0-43491F3A74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3D54-7A47-432B-92C4-C8F6BD3A71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08BD-A8A1-4E08-95CD-E0DDE1B595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00BBB-25FB-43AC-B9BA-708E503D5C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906A-FC09-4D18-B59D-4EB4F819FF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CBFC-4C17-4DBB-92D7-CAA69C3F1C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A6D0C-0491-416B-B86A-95B4F1D8F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FE25-13EE-45E2-A0BA-18C0C648AD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EC72D-70EA-4B5B-AC7C-66C38566C0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9525D-83CB-45AA-8541-6147B70A57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30FF4-9163-475E-9FCD-5985EC5EE2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5C921-99C3-498A-93D8-1A8AD1CF4D8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D6B9B-7380-43F9-931F-AE548563D2B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537D8-FA29-4217-BAFC-5F82B85C5A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BC6E8-CE8E-4732-9CDE-54F870B435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4F2C6-E34F-4795-BF21-46F7B72745E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95472-05ED-4723-BE06-98C1EB26DE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854CF-FD94-4187-8B79-B4004D1CC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9920-A406-444E-8D7F-5FFE8EBDB30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1BE6F-1B88-4F19-BDC6-F31618763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90C0-E410-4028-AD47-D44D9F1C8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58EA-981B-408A-B410-8D5D1E6877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2E53-7124-4D3A-8891-E5DF3B050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6A18-A197-47D7-A7D8-4027952CB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E5A7-6854-42B2-AF66-C78E690F2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3085-DF2D-4D57-A242-E8C6E27C1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1E83-071B-4E6E-B67C-D5A520141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8CD6-300B-41A9-9C6A-A5FC72A31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FD23-F5FA-4ED1-98DE-7C0DD57CAE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FA09-0C32-4ED3-8A47-4A8E04270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D2AB-A75D-4609-8683-EB726953FE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28FF-37E2-41AE-A876-FE657DDEA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AD14-918B-46F6-A15D-7FD76F51B5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F39-8325-4787-8FDA-A748EFDECC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2BB-58F7-4B36-84C3-1927415A6F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AD7-8A3C-471A-9B23-126743764A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167-54BB-48E7-85BD-BEAC790ED8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641-4BA6-49CB-A2B6-6EEF5B3D7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3CE2-94B5-4482-9CA1-7D0AB84F43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388-0F79-4C4D-8C1C-96B1276110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141-4569-4149-8434-D4DC34A978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CE3-7D00-4C7A-9A2A-8442AA24EB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96B-AA35-4311-A390-91894CC58E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640-E96A-40C8-B656-BD60B88AF3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FCC-939B-462E-9B4E-A2DED3EB4F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61D-A71B-4036-BBF0-CED92C0761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569B2-69A0-45DA-880F-59E7155BE1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39410-0C44-43F5-94D4-1D0A0FD163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5C62-1F44-4EFE-B894-F90E0F63A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863A-94EC-433F-9F90-95973484C3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B52E-8048-4A58-B2FA-EAAE10FA5E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9D825-DE86-4937-91B0-DA657C33DC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FEBD-FF77-4FDD-B254-33A9579ACE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2079C-2B07-43CF-A0D7-236E0289AE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1ED74-D9AC-48B6-9C3D-06A601FF5C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CB534-E593-4D04-A640-36E097F80E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BB1B7-D950-4FA7-BFCD-ADA514400F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50AA1-B469-44C1-BAB1-98889364B3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56173-23C1-4062-ACBF-CE98BB0B2F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6FB5-B0F4-4B09-AA60-A698F7972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0517-9662-4F91-9AEC-8FEAF1C9DD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F26F-7E65-45EA-9CF4-071205C990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B4220-F93D-4372-A3F8-87A33A21AC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83716-AF36-48FD-BA20-D167E17FFE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64B73-5FEE-4D4D-929F-4D07BA46B7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48461-232F-440F-98BD-C1EA148D34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80F1A-62E7-40AE-BC76-BF459C0A87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93F80-B70A-4405-A7A7-38F079CA1F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29C2-7F04-47C0-AB4E-3F14D6FE32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D6453-A298-4AE6-A2CE-950F7E5CBA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40984-BB29-4FA8-8094-5D6EEB454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622A-8EFF-472B-9409-14CB20CDF0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922AC-103A-46EF-8A03-E398114AF6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90C-21C9-4CDC-ACAD-B4AE4ED13B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9EC2-3811-445E-8C6B-BBA6FA5E77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9A7A-1BBE-46A4-B8AD-623078519C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18B-DF3F-415C-982F-786AA1D6232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849-1B63-4BF8-80C8-9FAE488A4A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27B3-DF8C-441D-A190-F01B08CEC4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B8BA-1B40-437F-96F8-CA64F96EAB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CE66-5AF3-482F-A87E-B005C6D222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53E8-4433-45BC-BE41-1E4BC04FE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121C-B30B-473E-85ED-C1A2070E38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B063-142E-43CA-B962-5573AED2B7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097-F66F-4E69-88B9-B1DA92C989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95C-F385-495D-9FD0-3804A5A554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4E7DA-234C-4297-A20C-3EE405B286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0469A-FA79-4011-A1BC-A140D6AC84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1BC6A-1293-4B0D-B696-6F2C8FD91B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4E3AC-A452-4071-9288-E64CDBF585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E1E00-D1B1-4EA9-B080-18047186DA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CB0A7-BD05-431F-B573-F8AF17CFA7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243C3-EB00-48E7-9C3E-A35112FE2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AF93-81E1-40C8-A7C7-D8DD054C1A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D30ED-9ED9-411D-85D2-364E24AF399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DB752-5913-4A3C-B7A4-9DD7BA656D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0CA1E-8EE9-4BF3-9D24-65D98B058F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3527F-66D5-4AE5-A085-FE2C8AF5F9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E9D4D-BBB6-419E-9467-1B5DAA0C16D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7EC4B-1BA0-4646-8266-18E6B53495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F5CA9-CE19-4CD0-92C2-D72F520941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EB23D-2CAE-4771-A5BF-179008EA45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74210-7651-4F7F-8A53-909E4D9109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5C0C6-1E2B-4A20-8DE2-B5373602C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1F31-F9ED-496B-9B75-4D2498C1C9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02920" y="279000"/>
            <a:ext cx="9072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2E954-75B0-4A31-88AC-129D9DC5EA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BC334-7676-411F-8963-A74BFA290C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16AD0-CA40-4090-A586-E2DD97F974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6B1E2-ED8E-4917-9454-D198FBE40F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2920" y="4420080"/>
            <a:ext cx="907236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0F633-EEBA-4AEA-B1C3-A651DC3ADC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51960" y="181440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292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51960" y="4420080"/>
            <a:ext cx="442728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6B912-B29C-41ED-8EF3-9E7A65D612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7048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638040" y="181440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292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7048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638040" y="4420080"/>
            <a:ext cx="2921040" cy="237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8DC7E-A78C-4F32-ABB6-B21F12EC9E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4596-F6B7-4886-82F9-27CBEB25BD9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EFBF-4D53-4AC0-80FD-C4B2B3770E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AA45-0605-4693-B789-5BDE3F84E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428840" y="7056360"/>
            <a:ext cx="4643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32600" y="7056360"/>
            <a:ext cx="3309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9523440" y="7154640"/>
            <a:ext cx="511200" cy="35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4C7B-304B-4ECC-8392-8F72556A9D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0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FE6C6-35AA-4085-9A1F-8EE9628A8340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1360" y="146160"/>
            <a:ext cx="9740880" cy="2792160"/>
            <a:chOff x="171360" y="146160"/>
            <a:chExt cx="9740880" cy="27921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71360" y="146160"/>
              <a:ext cx="974088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6120" y="257040"/>
              <a:ext cx="9528120" cy="25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"/>
          <p:cNvSpPr/>
          <p:nvPr/>
        </p:nvSpPr>
        <p:spPr>
          <a:xfrm>
            <a:off x="6132600" y="717552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9523440" y="709308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1603C-C95F-4CE5-A20E-AC3CA62B3A44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717552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24876-38FE-452A-954C-5FD544DAAB1A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3400" y="3602160"/>
            <a:ext cx="816444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"/>
          <p:cNvSpPr/>
          <p:nvPr/>
        </p:nvSpPr>
        <p:spPr>
          <a:xfrm>
            <a:off x="6132600" y="718020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4"/>
          </p:nvPr>
        </p:nvSpPr>
        <p:spPr>
          <a:xfrm>
            <a:off x="9523440" y="709776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30348-6918-4D5B-A870-DDEB4CEFD5CF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718020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9526320" y="7099200"/>
            <a:ext cx="5094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36F50-8BB9-4C3D-8DC2-CEE55B0D0D01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79320" y="2386080"/>
            <a:ext cx="413388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386080"/>
            <a:ext cx="413244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6"/>
          </p:nvPr>
        </p:nvSpPr>
        <p:spPr>
          <a:xfrm>
            <a:off x="9526320" y="7099200"/>
            <a:ext cx="5094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5DFE0-8137-4B94-A44D-167285A3BBC2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71360" y="152280"/>
            <a:ext cx="9734760" cy="7259760"/>
            <a:chOff x="171360" y="152280"/>
            <a:chExt cx="9734760" cy="725976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734760" cy="72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1640" y="412920"/>
              <a:ext cx="9212400" cy="67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49440" y="1569960"/>
            <a:ext cx="882000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"/>
          <p:cNvSpPr/>
          <p:nvPr/>
        </p:nvSpPr>
        <p:spPr>
          <a:xfrm>
            <a:off x="6132600" y="705636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28840" y="7056360"/>
            <a:ext cx="4643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9523440" y="709920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07A7C-C547-4177-8B40-F4129EE62585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575320" y="1165320"/>
            <a:ext cx="413388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"/>
          <p:cNvSpPr/>
          <p:nvPr/>
        </p:nvSpPr>
        <p:spPr>
          <a:xfrm>
            <a:off x="6132600" y="718020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9523440" y="709776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18D37-DF64-4056-9D8B-E5AF2E6C0275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718020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23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2920" y="1814400"/>
            <a:ext cx="9072360" cy="4988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"/>
          <p:cNvSpPr/>
          <p:nvPr/>
        </p:nvSpPr>
        <p:spPr>
          <a:xfrm>
            <a:off x="6132600" y="7175520"/>
            <a:ext cx="3309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9"/>
          </p:nvPr>
        </p:nvSpPr>
        <p:spPr>
          <a:xfrm>
            <a:off x="9523440" y="7093080"/>
            <a:ext cx="511200" cy="465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A8346-BABB-49D6-924C-B0D08E85282B}" type="slidenum">
              <a:rPr b="0" lang="en-US" sz="2400" spc="-1" strike="noStrike">
                <a:solidFill>
                  <a:srgbClr val="dfe0d4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7175520"/>
            <a:ext cx="4308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http://daniel-workman.suite101.com/germany-s-trade-buddies-a10156" TargetMode="External"/><Relationship Id="rId4" Type="http://schemas.openxmlformats.org/officeDocument/2006/relationships/hyperlink" Target="http://www.oecd.org/document/23/0,3746,en_2649_34117_44808343_1_1_1_1,00.html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500040" y="-92160"/>
            <a:ext cx="9509040" cy="1665360"/>
            <a:chOff x="500040" y="-92160"/>
            <a:chExt cx="9509040" cy="1665360"/>
          </a:xfrm>
        </p:grpSpPr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500040" y="-92160"/>
              <a:ext cx="95090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00040" y="-92160"/>
              <a:ext cx="9509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By: Jes Baldeweg-Rau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68360" y="1722600"/>
            <a:ext cx="90709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daniel-workman.suite101.com/germany-s-trade-buddies-a101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oecd.org/document/23/0,3746,en_2649_34117_44808343_1_1_1_1,0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tate.gov/r/pa/ei/bgn/3997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heritage.org/index/country/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globaltrade.net/international-trade-import-exports/f/business/text/Germany/Trade-Policy-Trade-Regulations-and-Standards-in-Germany.html?folderId=13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savingusmanufacturing.com/blog/general/how-did-germany-keep-position-as-the-world%E2%80%99s-top-exporter-for-so-lon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3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ttp://topforeignstocks.com/2010/08/15/germanys-top-trading-partners-and-export-good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4560" y="2865600"/>
            <a:ext cx="5219640" cy="38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49240" y="884160"/>
            <a:ext cx="8763120" cy="5791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914400" y="914400"/>
            <a:ext cx="32004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sche Exporte sind in 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en Welt woll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17640" bIns="50400" anchor="t">
            <a:noAutofit/>
          </a:bodyPr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is a global trade super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surpassed the U.S. to become the world’s leading exporter in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remained number one until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eutschland is the largest economy in the European Union and the fourth-largest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buClr>
                <a:srgbClr val="72a376"/>
              </a:buClr>
              <a:buSzPct val="45000"/>
              <a:buFont typeface="Wingdings" charset="2"/>
              <a:buChar char=""/>
              <a:tabLst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exported $1.17 trillion while China’s exports were $1.2 trillion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tabLst>
                <a:tab algn="l" pos="0"/>
                <a:tab algn="l" pos="1022400"/>
                <a:tab algn="l" pos="1936800"/>
                <a:tab algn="l" pos="2851200"/>
                <a:tab algn="l" pos="3765600"/>
                <a:tab algn="l" pos="4680000"/>
                <a:tab algn="l" pos="5594400"/>
                <a:tab algn="l" pos="6508800"/>
                <a:tab algn="l" pos="7423200"/>
                <a:tab algn="l" pos="8337600"/>
                <a:tab algn="l" pos="9252000"/>
                <a:tab algn="l" pos="10166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687680" y="655560"/>
            <a:ext cx="6858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marL="60480" indent="0" algn="r">
              <a:buNone/>
              <a:tabLst>
                <a:tab algn="l" pos="0"/>
                <a:tab algn="l" pos="60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International Demand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3280" y="181440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9440" bIns="50400" anchor="t">
            <a:normAutofit/>
          </a:bodyPr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is relatively poor in raw material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ir products in high demand focus on engineering (automobiles, machinery, metals, and chemical goods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xports account for more than one-third of national outpu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 global brands are: Mercedes Benz, BMW, Volkswagen, Audi, Porsche (automobile), Adidas and Puma (clothing and footwear), T-Mobile (telecom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buClr>
                <a:srgbClr val="72a376"/>
              </a:buClr>
              <a:buSzPct val="70000"/>
              <a:buFont typeface="Rockwel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ermany was the world’s fourth largest producer and largest exporter of automobil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239760" y="274680"/>
            <a:ext cx="4619520" cy="3048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649840" y="274680"/>
            <a:ext cx="4133880" cy="3106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44680" y="3551400"/>
            <a:ext cx="3809880" cy="2943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7707240" y="2941560"/>
            <a:ext cx="2492280" cy="2590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3668760" y="2865600"/>
            <a:ext cx="3752640" cy="2124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7"/>
          <a:stretch/>
        </p:blipFill>
        <p:spPr>
          <a:xfrm>
            <a:off x="4811760" y="5151600"/>
            <a:ext cx="266688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03280" y="1814040"/>
            <a:ext cx="9074160" cy="5281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pean countries are the top exports for German good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orts to China and other emerging countries are growing at a faster pace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 imports were worth 72.8 Billion EUR in January of 2012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 exports were worth 85.9 Billion EUR in January of 2011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-318960" algn="just">
              <a:lnSpc>
                <a:spcPct val="100000"/>
              </a:lnSpc>
              <a:buClr>
                <a:srgbClr val="72a376"/>
              </a:buClr>
              <a:buSzPct val="70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ecent years, traditional German exports like steel-making and textiles have shrunk significantly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 algn="just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 algn="just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marL="60480" indent="0" algn="r">
              <a:buNone/>
              <a:tabLst>
                <a:tab algn="l" pos="0"/>
                <a:tab algn="l" pos="60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e7eacb"/>
                </a:solidFill>
                <a:latin typeface="Rockwell"/>
              </a:rPr>
              <a:t>International Demands continued</a:t>
            </a:r>
            <a:endParaRPr b="0" lang="en-US" sz="47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077840" y="655560"/>
            <a:ext cx="746784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500040" y="274680"/>
            <a:ext cx="9406080" cy="1279440"/>
            <a:chOff x="500040" y="274680"/>
            <a:chExt cx="9406080" cy="127944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500040" y="274680"/>
              <a:ext cx="94060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00040" y="274680"/>
              <a:ext cx="94060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03280" y="1768320"/>
            <a:ext cx="93376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rank is Germany’s economy among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ccount for more than how much of Germany’s national outp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592200"/>
                <a:tab algn="l" pos="1506600"/>
                <a:tab algn="l" pos="2421000"/>
                <a:tab algn="l" pos="3335400"/>
                <a:tab algn="l" pos="4249800"/>
                <a:tab algn="l" pos="5164200"/>
                <a:tab algn="l" pos="6078600"/>
                <a:tab algn="l" pos="6993000"/>
                <a:tab algn="l" pos="7907400"/>
                <a:tab algn="l" pos="8821800"/>
                <a:tab algn="l" pos="9736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500040" y="291960"/>
            <a:ext cx="9406080" cy="1287720"/>
            <a:chOff x="500040" y="291960"/>
            <a:chExt cx="9406080" cy="128772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500040" y="291960"/>
              <a:ext cx="940608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00040" y="291960"/>
              <a:ext cx="940608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Fourth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Rockwell"/>
              </a:rPr>
              <a:t>One-Thir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27:17Z</dcterms:created>
  <dc:creator/>
  <dc:description/>
  <dc:language>en-US</dc:language>
  <cp:lastModifiedBy>SCSadmin</cp:lastModifiedBy>
  <dcterms:modified xsi:type="dcterms:W3CDTF">2012-04-03T17:10:35Z</dcterms:modified>
  <cp:revision>8</cp:revision>
  <dc:subject/>
  <dc:title>Germany's International Economic Affairs</dc:title>
</cp:coreProperties>
</file>